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  <p:sldId id="354" r:id="rId108"/>
    <p:sldId id="355" r:id="rId109"/>
    <p:sldId id="356" r:id="rId110"/>
    <p:sldId id="357" r:id="rId111"/>
    <p:sldId id="358" r:id="rId112"/>
    <p:sldId id="359" r:id="rId113"/>
    <p:sldId id="360" r:id="rId114"/>
    <p:sldId id="361" r:id="rId115"/>
    <p:sldId id="362" r:id="rId116"/>
    <p:sldId id="363" r:id="rId117"/>
    <p:sldId id="364" r:id="rId118"/>
    <p:sldId id="365" r:id="rId119"/>
    <p:sldId id="366" r:id="rId120"/>
    <p:sldId id="367" r:id="rId121"/>
    <p:sldId id="368" r:id="rId122"/>
    <p:sldId id="369" r:id="rId123"/>
    <p:sldId id="370" r:id="rId124"/>
    <p:sldId id="371" r:id="rId125"/>
    <p:sldId id="372" r:id="rId126"/>
    <p:sldId id="373" r:id="rId127"/>
    <p:sldId id="374" r:id="rId128"/>
    <p:sldId id="375" r:id="rId129"/>
    <p:sldId id="376" r:id="rId130"/>
    <p:sldId id="377" r:id="rId131"/>
    <p:sldId id="378" r:id="rId132"/>
    <p:sldId id="379" r:id="rId133"/>
    <p:sldId id="380" r:id="rId134"/>
    <p:sldId id="381" r:id="rId135"/>
    <p:sldId id="382" r:id="rId136"/>
    <p:sldId id="383" r:id="rId137"/>
    <p:sldId id="384" r:id="rId138"/>
    <p:sldId id="385" r:id="rId139"/>
    <p:sldId id="386" r:id="rId140"/>
    <p:sldId id="387" r:id="rId141"/>
    <p:sldId id="388" r:id="rId142"/>
    <p:sldId id="389" r:id="rId143"/>
    <p:sldId id="390" r:id="rId144"/>
    <p:sldId id="391" r:id="rId145"/>
    <p:sldId id="392" r:id="rId146"/>
    <p:sldId id="393" r:id="rId147"/>
    <p:sldId id="394" r:id="rId148"/>
    <p:sldId id="395" r:id="rId149"/>
    <p:sldId id="396" r:id="rId150"/>
    <p:sldId id="397" r:id="rId151"/>
    <p:sldId id="398" r:id="rId152"/>
    <p:sldId id="399" r:id="rId1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slide" Target="slides/slide99.xml"/><Relationship Id="rId109" Type="http://schemas.openxmlformats.org/officeDocument/2006/relationships/slide" Target="slides/slide100.xml"/><Relationship Id="rId110" Type="http://schemas.openxmlformats.org/officeDocument/2006/relationships/slide" Target="slides/slide101.xml"/><Relationship Id="rId111" Type="http://schemas.openxmlformats.org/officeDocument/2006/relationships/slide" Target="slides/slide102.xml"/><Relationship Id="rId112" Type="http://schemas.openxmlformats.org/officeDocument/2006/relationships/slide" Target="slides/slide103.xml"/><Relationship Id="rId113" Type="http://schemas.openxmlformats.org/officeDocument/2006/relationships/slide" Target="slides/slide104.xml"/><Relationship Id="rId114" Type="http://schemas.openxmlformats.org/officeDocument/2006/relationships/slide" Target="slides/slide105.xml"/><Relationship Id="rId115" Type="http://schemas.openxmlformats.org/officeDocument/2006/relationships/slide" Target="slides/slide106.xml"/><Relationship Id="rId116" Type="http://schemas.openxmlformats.org/officeDocument/2006/relationships/slide" Target="slides/slide107.xml"/><Relationship Id="rId117" Type="http://schemas.openxmlformats.org/officeDocument/2006/relationships/slide" Target="slides/slide108.xml"/><Relationship Id="rId118" Type="http://schemas.openxmlformats.org/officeDocument/2006/relationships/slide" Target="slides/slide109.xml"/><Relationship Id="rId119" Type="http://schemas.openxmlformats.org/officeDocument/2006/relationships/slide" Target="slides/slide110.xml"/><Relationship Id="rId120" Type="http://schemas.openxmlformats.org/officeDocument/2006/relationships/slide" Target="slides/slide111.xml"/><Relationship Id="rId121" Type="http://schemas.openxmlformats.org/officeDocument/2006/relationships/slide" Target="slides/slide112.xml"/><Relationship Id="rId122" Type="http://schemas.openxmlformats.org/officeDocument/2006/relationships/slide" Target="slides/slide113.xml"/><Relationship Id="rId123" Type="http://schemas.openxmlformats.org/officeDocument/2006/relationships/slide" Target="slides/slide114.xml"/><Relationship Id="rId124" Type="http://schemas.openxmlformats.org/officeDocument/2006/relationships/slide" Target="slides/slide115.xml"/><Relationship Id="rId125" Type="http://schemas.openxmlformats.org/officeDocument/2006/relationships/slide" Target="slides/slide116.xml"/><Relationship Id="rId126" Type="http://schemas.openxmlformats.org/officeDocument/2006/relationships/slide" Target="slides/slide117.xml"/><Relationship Id="rId127" Type="http://schemas.openxmlformats.org/officeDocument/2006/relationships/slide" Target="slides/slide118.xml"/><Relationship Id="rId128" Type="http://schemas.openxmlformats.org/officeDocument/2006/relationships/slide" Target="slides/slide119.xml"/><Relationship Id="rId129" Type="http://schemas.openxmlformats.org/officeDocument/2006/relationships/slide" Target="slides/slide120.xml"/><Relationship Id="rId130" Type="http://schemas.openxmlformats.org/officeDocument/2006/relationships/slide" Target="slides/slide121.xml"/><Relationship Id="rId131" Type="http://schemas.openxmlformats.org/officeDocument/2006/relationships/slide" Target="slides/slide122.xml"/><Relationship Id="rId132" Type="http://schemas.openxmlformats.org/officeDocument/2006/relationships/slide" Target="slides/slide123.xml"/><Relationship Id="rId133" Type="http://schemas.openxmlformats.org/officeDocument/2006/relationships/slide" Target="slides/slide124.xml"/><Relationship Id="rId134" Type="http://schemas.openxmlformats.org/officeDocument/2006/relationships/slide" Target="slides/slide125.xml"/><Relationship Id="rId135" Type="http://schemas.openxmlformats.org/officeDocument/2006/relationships/slide" Target="slides/slide126.xml"/><Relationship Id="rId136" Type="http://schemas.openxmlformats.org/officeDocument/2006/relationships/slide" Target="slides/slide127.xml"/><Relationship Id="rId137" Type="http://schemas.openxmlformats.org/officeDocument/2006/relationships/slide" Target="slides/slide128.xml"/><Relationship Id="rId138" Type="http://schemas.openxmlformats.org/officeDocument/2006/relationships/slide" Target="slides/slide129.xml"/><Relationship Id="rId139" Type="http://schemas.openxmlformats.org/officeDocument/2006/relationships/slide" Target="slides/slide130.xml"/><Relationship Id="rId140" Type="http://schemas.openxmlformats.org/officeDocument/2006/relationships/slide" Target="slides/slide131.xml"/><Relationship Id="rId141" Type="http://schemas.openxmlformats.org/officeDocument/2006/relationships/slide" Target="slides/slide132.xml"/><Relationship Id="rId142" Type="http://schemas.openxmlformats.org/officeDocument/2006/relationships/slide" Target="slides/slide133.xml"/><Relationship Id="rId143" Type="http://schemas.openxmlformats.org/officeDocument/2006/relationships/slide" Target="slides/slide134.xml"/><Relationship Id="rId144" Type="http://schemas.openxmlformats.org/officeDocument/2006/relationships/slide" Target="slides/slide135.xml"/><Relationship Id="rId145" Type="http://schemas.openxmlformats.org/officeDocument/2006/relationships/slide" Target="slides/slide136.xml"/><Relationship Id="rId146" Type="http://schemas.openxmlformats.org/officeDocument/2006/relationships/slide" Target="slides/slide137.xml"/><Relationship Id="rId147" Type="http://schemas.openxmlformats.org/officeDocument/2006/relationships/slide" Target="slides/slide138.xml"/><Relationship Id="rId148" Type="http://schemas.openxmlformats.org/officeDocument/2006/relationships/slide" Target="slides/slide139.xml"/><Relationship Id="rId149" Type="http://schemas.openxmlformats.org/officeDocument/2006/relationships/slide" Target="slides/slide140.xml"/><Relationship Id="rId150" Type="http://schemas.openxmlformats.org/officeDocument/2006/relationships/slide" Target="slides/slide141.xml"/><Relationship Id="rId151" Type="http://schemas.openxmlformats.org/officeDocument/2006/relationships/slide" Target="slides/slide142.xml"/><Relationship Id="rId152" Type="http://schemas.openxmlformats.org/officeDocument/2006/relationships/slide" Target="slides/slide143.xml"/><Relationship Id="rId153" Type="http://schemas.openxmlformats.org/officeDocument/2006/relationships/slide" Target="slides/slide144.xml"/><Relationship Id="rId1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935-051D-47CA-942E-8A734B15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8F7-D9A5-4807-99C5-9199DE8C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F7A-45A5-4A02-BD83-4A5ECC9A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1E8-2A74-48FD-BCCE-0B3C7B07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F711-8411-450E-B321-503B9978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A8C6-BE3A-40FA-BAF9-2CB054FF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807A-C9C1-4540-B3AE-11567AED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EF56-96E6-47ED-B2F6-0BB34240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422B-8602-4E93-A149-7E88F6B9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06C2-B7C7-42FB-A5E0-6B74C40B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536A-3907-4717-9EA6-92D079E2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E6B-7DAB-4274-93CB-7CBA2EB7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0AA5-269B-4C3F-8886-78DD853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42AF-2F69-4B19-8CE5-BCF92EF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24AA-888F-42D2-A464-31432396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9819-EEFD-4DE0-84C7-DF5F56D4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EB08-1872-4B9D-A33C-307D83CF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8024D-16B7-4389-8EA1-68BE0F04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48CC3-1356-44BC-96BA-1C108611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E0399-EADF-4AC7-AAA1-3B427D02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8F063-84EC-488B-A81E-B26094EE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036B6-CC20-41DC-9CF1-FE59C045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8B9-F6BF-4E88-861F-570B6C23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7CC81-B643-4FF3-B220-7F856428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010B5-224A-41DB-87CB-A3DDA4D0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D499B-FD15-427C-9EE9-97FDD6F8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5D1D0-2503-4D0E-8365-5BED9388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712EC-C4E3-4908-830F-6F34228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EF5BF-993F-4A09-ADCF-A89C7A1D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B4BBB-92A3-4E6F-B6AC-985E0497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32EA7-0A33-493A-9B28-6793F39E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0AC3F-83C9-4F0E-A7CA-6A35B1C6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689D1-13F5-49A4-80C9-94EDC81E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91E-F07B-4518-AB61-D5C1F4C6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9593E-C04D-46AF-9054-86FC5592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FAF13-8F38-4127-BDBD-D999B7A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92534-33AA-45E5-A513-0631A585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42781-B375-4A34-96BF-2C70AF26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185F5-A49D-4488-B829-6A86474B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CC695-B5FE-468D-A776-2AC905A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61485-28C0-4E5A-BE00-60FE53C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39E2D-C9DF-49C7-B534-2FE6E8DF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70F10-866D-4C7F-A04B-F71FB404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D7ACF-80F7-4A13-9F68-F240D722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6D5-8BE3-44D4-9D44-F7341776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B7A30-0A89-44F4-9F91-BB454137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55A7C-558C-4EB1-AA01-02D2AEE0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79439-6132-4376-B6DE-15935963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39968-D738-4C31-BE06-0FF846E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580EE-413D-4E34-A083-3DC79AD3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FB9A9-E2AA-4717-A179-E8A8BB9A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6EE4A-898A-4966-9A0F-028BCCF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24C60-C936-454B-BDCD-E8B4FA32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2B8A8-B6AE-4FF1-A28C-DFD58D01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D5D46-691F-4002-8CDE-441519BE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88B-9B53-4513-825D-C47B9256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94E2E-DA8C-4FC3-8150-22DC1A91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CF830-52D9-4204-99C5-832C8B81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8B8BD-B8D6-4143-849F-ABCDFE58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A915-FB0A-4ED7-8565-1B4C34C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9ED9-B163-4CFE-9291-7AD10DE4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9B9CA-1F1A-4CAD-B0F6-D61AB9D3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CAA26-D50A-49E3-B4FA-E45AC1EB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F6430-04EF-47FB-A573-9FE83627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4F168-DCEB-40F5-985D-CAD4D43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5FBB1-F13C-49F8-B11B-3FBF14E2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50F-F2BC-4CAC-BB77-654080C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AA20F-5399-463D-8EE1-23EB2D56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3E1F9-7FE2-487B-B49B-D11AABBD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8B88-B9C2-496D-BBDA-9C38C2AB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53A3F-BA4B-4CCC-9A20-EFCE2344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73E7C-D146-42AF-A10A-656A63F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D43D0-0198-4740-BFD8-64F25562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C0ED9-49BF-4285-A99C-374C3B1A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61B63-58FB-4501-8CE9-1A64317D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D5E1B-30CA-44F0-BBD4-2110DCAD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751F1-B766-4CD7-BBAF-A55987C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8C1-A5CA-47A6-BA40-1AE131F7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71EE9-19C3-481D-B28B-16C43D77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9CE29-3845-4F17-817A-C10C5F33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8D8EF-17B6-4EEE-B3CF-FCF95771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330F3-9E56-4324-83A7-E79ECD2C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11ED6-2558-43BF-AAF2-C5A9194D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27906-7FBE-4746-8DFF-4588B92B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9707D-A6FA-4328-8500-87C88A6B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687B5-C978-40CC-A8FC-36524C8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3E040-C983-472D-B56C-104EF70E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EB920-0DC3-4C44-AAA7-470C9D97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BA0-87C3-4D57-9455-D229DBF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795C2-8019-4936-AEF4-6E57CD48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845B4-8EA9-49BE-AB2A-4C3CAEF5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6E3DF-04CA-4F9B-9FDE-A62FC20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954EB-0F4E-4E90-909A-8530240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F3F02-37D6-4470-8897-2F35AC86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08004-1119-44F6-AEF2-02173FCA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B45C7-3181-4BBA-A225-EE35820B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5F7B-F62F-4A8A-92E5-BB38FAE71A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1C18-1B5A-4462-B3C7-8DE65815506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B870-A938-4B27-83F5-482256C2150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2E6C-B713-41E5-B0D0-8C6AFA96E2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C581-8948-482F-843A-AA9D961369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24F0-C6F0-4B4F-8C20-B1C650371258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7547-4276-4CFB-BFCD-4D4AC74D692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2203-C747-4480-9E4B-F384BB49FC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Just%20Like%20Josh%20GIbson.htm" TargetMode="External"/><Relationship Id="rId2" Type="http://schemas.openxmlformats.org/officeDocument/2006/relationships/hyperlink" Target="http://www.scottsboro.org/~flewis/SF%20Reading%20Street/spellmaster/Firefighter!/jigword2.html" TargetMode="External"/><Relationship Id="rId3" Type="http://schemas.openxmlformats.org/officeDocument/2006/relationships/hyperlink" Target="http://www.scottsboro.org/~flewis/SF%20Reading%20Street/spellmaster/Just%20Like%20Josh%20Gibson/matchword2.html" TargetMode="External"/><Relationship Id="rId4" Type="http://schemas.openxmlformats.org/officeDocument/2006/relationships/hyperlink" Target="http://www.scottsboro.org/~flewis/SF%20Reading%20Street/spellmaster/Just%20Like%20Josh%20Gibson/speedword2.html" TargetMode="External"/><Relationship Id="rId5" Type="http://schemas.openxmlformats.org/officeDocument/2006/relationships/hyperlink" Target="http://www.scottsboro.org/~flewis/SF%20Reading%20Street/spellmaster/Just%20Like%20Josh%20Gibson/wordsearch2.html" TargetMode="External"/><Relationship Id="rId6" Type="http://schemas.openxmlformats.org/officeDocument/2006/relationships/hyperlink" Target="http://www.scottsboro.org/~flewis/SF%20Reading%20Street/spellmaster/Just%20Like%20Josh%20Gibson/wordweb.html" TargetMode="External"/><Relationship Id="rId7" Type="http://schemas.openxmlformats.org/officeDocument/2006/relationships/hyperlink" Target="http://www.spellingcity.com/index.php?option=com_spellcity&amp;task=viewList&amp;listId=825689" TargetMode="External"/><Relationship Id="rId8" Type="http://schemas.openxmlformats.org/officeDocument/2006/relationships/hyperlink" Target="http://www.spellingcity.com/index.php?option=com_spellcity&amp;task=viewList&amp;listId=825686" TargetMode="External"/><Relationship Id="rId9" Type="http://schemas.openxmlformats.org/officeDocument/2006/relationships/hyperlink" Target="http://www.spellingcity.com/index.php?option=com_spellcity&amp;task=viewList&amp;listId=825686" TargetMode="External"/><Relationship Id="rId10" Type="http://schemas.openxmlformats.org/officeDocument/2006/relationships/hyperlink" Target="http://www.scottsboro.org/~flewis/SF%20Reading%20Street/spellmaster/Just%20Like%20Josh%20Gibson%20Spelling%20Words/speedword2.html" TargetMode="External"/><Relationship Id="rId11" Type="http://schemas.openxmlformats.org/officeDocument/2006/relationships/hyperlink" Target="http://www.scottsboro.org/~flewis/SF%20Reading%20Street/spellmaster/Just%20Like%20Josh%20Gibson%20Spelling%20Words/wordweb.html" TargetMode="External"/><Relationship Id="rId12" Type="http://schemas.openxmlformats.org/officeDocument/2006/relationships/hyperlink" Target="http://www.quia.com/pop/208349.html" TargetMode="External"/><Relationship Id="rId13" Type="http://schemas.openxmlformats.org/officeDocument/2006/relationships/hyperlink" Target="http://www.spellingcity.com/index.php?option=com_spellcity&amp;Itemid=122&amp;task=viewList&amp;listId=354283" TargetMode="External"/><Relationship Id="rId14" Type="http://schemas.openxmlformats.org/officeDocument/2006/relationships/hyperlink" Target="http://www.spellingcity.com/index.php?option=com_spellcity&amp;task=viewList&amp;listId=825691" TargetMode="External"/><Relationship Id="rId15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7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williams.prestosports.com/images/sball/Field72.jpg&amp;imgrefurl=http://williams.prestosports.com/sports/sball/index&amp;usg=__3Gb43MXobk6TEs8e2oob1Brkq1I=&amp;h=324&amp;w=432&amp;sz=148&amp;hl=EN&amp;start=2&amp;tbnid=YfmlvXG-77dbTM:&amp;tbnh=95&amp;tbnw=126&amp;prev=/images?q=field&amp;gbv=2&amp;hl=EN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m/imgres?imgurl=http://www.atpm.com/12.02/readers/images/dominican-republic-field.jpg&amp;imgrefurl=http://www.atpm.com/12.02/readers/dominican-republic-field.shtml&amp;usg=__gUtBltHPQytciE6OLqXlOYu0fB0=&amp;h=1120&amp;w=1680&amp;sz=782&amp;hl=EN&amp;start=3&amp;tbnid=_22mkCkaIR5Q-M:&amp;tbnh=100&amp;tbnw=150&amp;prev=/images?q=field&amp;gbv=2&amp;hl=EN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graphics.fansonly.com/photos/schools/lewi/galleries/BrennanField/g-brennan_field11-lg.jpg&amp;imgrefurl=http://lewisflyers.cstv.com/facilities/lewi-facilities.html&amp;usg=__VauMmGqkXSr_UAVJySRUmelSJOE=&amp;h=300&amp;w=400&amp;sz=23&amp;hl=EN&amp;start=7&amp;tbnid=j02INKEDLMmLsM:&amp;tbnh=93&amp;tbnw=124&amp;prev=/images?q=field&amp;gbv=2&amp;hl=EN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chicago.cubs.mlb.com/chc/images/ballpark/581x300_wrigley_field.jpg&amp;imgrefurl=http://chicago.cubs.mlb.com/chc/ballpark/rooftops.jsp&amp;usg=__5mq4oGM1zO4oMGE7KaWm2_kONUE=&amp;h=300&amp;w=581&amp;sz=29&amp;hl=EN&amp;start=9&amp;tbnid=pgPAGlGj36_pFM:&amp;tbnh=69&amp;tbnw=134&amp;prev=/images?q=field&amp;gbv=2&amp;hl=EN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nl.gov/Media_Center/News/2007/photo/071207_field-hirez.jpg&amp;imgrefurl=http://www.anl.gov/Media_Center/News/2007/BIO071207.html&amp;usg=__E-brQVTb2oy5qAx9WWOFqPdBnyc=&amp;h=1089&amp;w=1612&amp;sz=1384&amp;hl=EN&amp;start=25&amp;tbnid=sSe8dkzngRHBpM:&amp;tbnh=101&amp;tbnw=150&amp;prev=/images?q=field&amp;gbv=2&amp;ndsp=20&amp;hl=EN&amp;sa=N&amp;start=20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livingbeing.com/2%2520HORSES%2520IN%2520FIELD-(c)%2520Paul%2520Smyres.JPG&amp;imgrefurl=http://livingbeing.com/tableofcontents.htm&amp;usg=__DZbPn9ZlxXmkc43I8ppiXNvlH48=&amp;h=960&amp;w=1440&amp;sz=243&amp;hl=EN&amp;start=44&amp;tbnid=laKwO9B6vAFI4M:&amp;tbnh=100&amp;tbnw=150&amp;prev=/images?q=field&amp;gbv=2&amp;ndsp=20&amp;hl=EN&amp;sa=N&amp;start=40" TargetMode="Externa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hyperlink" Target="http://images.google.com/imgres?imgurl=http://69.90.174.253/photos/display_pic_with_logo/4262/4262,1147049604,1.jpg&amp;imgrefurl=http://www.shutterstock.com/pic-1288067-baseball-home-plate-red-clay.html&amp;usg=__mpen-t5XBCAAXdHu9etLvjmPJJQ=&amp;h=321&amp;w=450&amp;sz=80&amp;hl=EN&amp;start=6&amp;tbnid=N2mJxGYwebugJM:&amp;tbnh=91&amp;tbnw=127&amp;prev=/images?q=baseball+homes+plate&amp;gbv=2&amp;hl=EN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google.com/imgres?imgurl=http://www.acclaimimages.com/_gallery/_images_n300/0037-0803-2914-4135_baseball_and_home_plate.jpg&amp;imgrefurl=http://www.acclaimimages.com/_gallery/_pages/0037-0803-2914-4135.html&amp;usg=__Ld3xVs9Smg9xbUCFhdadKyNtIpA=&amp;h=247&amp;w=300&amp;sz=31&amp;hl=EN&amp;start=12&amp;tbnid=0pM9wp2QN3BEsM:&amp;tbnh=96&amp;tbnw=116&amp;prev=/images?q=baseball+homes+plate&amp;gbv=2&amp;hl=EN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images.google.com/imgres?imgurl=http://wwwdelivery.superstock.com/WI/223/1626/PreviewComp/SuperStock_1626-2134.jpg&amp;imgrefurl=http://www.superstock.com/stock-photos-images/1626-2134&amp;usg=__IMLfVW8DivEFVKgDpEMDAuaT9LY=&amp;h=346&amp;w=350&amp;sz=73&amp;hl=EN&amp;start=20&amp;tbnid=5T7kpcqQDATGDM:&amp;tbnh=119&amp;tbnw=120&amp;prev=/images?q=baseball+homes+plate&amp;gbv=2&amp;hl=EN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images.google.com/imgres?imgurl=http://www.miamibeach411.com/ee/images/uploads/home-plate-seats.jpg&amp;imgrefurl=http://www.miamibeach411.com/news/index.php?/news/comments/marlins-home-plate/&amp;usg=__Tmi2uc9M8bQNM2CRnw1jMjVjeIs=&amp;h=322&amp;w=385&amp;sz=61&amp;hl=EN&amp;start=31&amp;tbnid=BmfJPUdrGBmRKM:&amp;tbnh=103&amp;tbnw=123&amp;prev=/images?q=baseball+homes+plate&amp;gbv=2&amp;ndsp=20&amp;hl=EN&amp;sa=N&amp;start=20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images.google.com/imgres?imgurl=http://www.esubulletin.com/media/images/WEB_Baseball_kellen_.jpg&amp;imgrefurl=http://www.esubulletin.com/articles/sports/2008/04/10/baseball-sweeps-fhsu-extends-streak-25&amp;usg=__qOHEQ2Evi19CL0pit3wErp5AXTU=&amp;h=420&amp;w=800&amp;sz=84&amp;hl=EN&amp;start=101&amp;tbnid=mLkv58psjGnwWM:&amp;tbnh=75&amp;tbnw=143&amp;prev=/images?q=baseball+homes+plate&amp;gbv=2&amp;ndsp=20&amp;hl=EN&amp;sa=N&amp;start=100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images.google.com/imgres?imgurl=http://www.digitalballparks.com/Southern/Baseball_Grounds_-_From_Behind_the_NetV2T.jpg&amp;imgrefurl=http://www.baseball-fever.com/showthread.php?t=69741&amp;usg=__cxa5e7f9x1H23oziCQWiuGNjtyY=&amp;h=575&amp;w=784&amp;sz=58&amp;hl=EN&amp;start=129&amp;tbnid=pfUu3ZOiDNgVUM:&amp;tbnh=105&amp;tbnw=143&amp;prev=/images?q=baseball+homes+plate&amp;gbv=2&amp;ndsp=20&amp;hl=EN&amp;sa=N&amp;start=120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hyperlink" Target="http://images.google.com/imgres?imgurl=http://www.topendsports.com/sport/baseball/images/baseball-diamond.gif&amp;imgrefurl=http://www.topendsports.com/sport/baseball/equipment.htm&amp;usg=__BFir4zPNVXf6JTJnV3-Ry5MyVfI=&amp;h=251&amp;w=252&amp;sz=5&amp;hl=EN&amp;start=2&amp;tbnid=KIJ5A4g_1DIMjM:&amp;tbnh=111&amp;tbnw=111&amp;prev=/images?q=baseball+bases&amp;gbv=2&amp;hl=EN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hyperlink" Target="http://images.google.com/imgres?imgurl=http://www.mightyeighth.org/cart2/images/index.jpg&amp;imgrefurl=http://www.mightyeighth.org/cart2/index.php?main_page=index&amp;cPath=67_79&amp;usg=__JeDhte6a2Q7fRUF85I3xq2WZEHI=&amp;h=400&amp;w=278&amp;sz=25&amp;hl=EN&amp;start=3&amp;tbnid=lkcHI3VvRjKjOM:&amp;tbnh=124&amp;tbnw=86&amp;prev=/images?q=forties&amp;gbv=2&amp;hl=EN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google.com/imgres?imgurl=http://www.doverbooks.co.uk/images/0486260000/0486269183.jpg&amp;imgrefurl=http://www.doverbooks.co.uk/pp/Costume/Everyday__Fashions_of_the_Forties.html&amp;usg=__Su0Oa9F7AXfPO3Hc6-2fdG7aa_Y=&amp;h=350&amp;w=263&amp;sz=35&amp;hl=EN&amp;start=17&amp;tbnid=QYPSyB1xlx8YJM:&amp;tbnh=120&amp;tbnw=90&amp;prev=/images?q=forties&amp;gbv=2&amp;hl=EN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images.google.com/imgres?imgurl=http://www.caranddriving.com/features2/300/motoring%2520in%2520the%2520forties.jpg&amp;imgrefurl=http://www.caranddriving.com/features2/&amp;usg=__V8qK18DUC2nJbdFHcoBsg3VA0ZM=&amp;h=1067&amp;w=1600&amp;sz=192&amp;hl=EN&amp;start=24&amp;tbnid=JcoOWt051gohoM:&amp;tbnh=100&amp;tbnw=150&amp;prev=/images?q=forties&amp;gbv=2&amp;ndsp=20&amp;hl=EN&amp;sa=N&amp;start=20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images.google.com/imgres?imgurl=http://www.tibpriors.org/images/00/forties_guys.jpg&amp;imgrefurl=http://www.tibpriors.org/priors_yearbook.htm&amp;usg=__FUGkcsiwXc0eXsDRllXHNG_WA3A=&amp;h=399&amp;w=517&amp;sz=58&amp;hl=EN&amp;start=65&amp;tbnid=sWzptf2jn4Q7_M:&amp;tbnh=101&amp;tbnw=131&amp;prev=/images?q=forties&amp;gbv=2&amp;ndsp=20&amp;hl=EN&amp;sa=N&amp;start=60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images.google.com/imgres?imgurl=http://justabouthair.com/rockabilly-hairstyles-/forties-rockabilly-hairstyles.jpg&amp;imgrefurl=http://justabouthair.com/rockabilly-hairstyles/&amp;usg=__9iniRdo-4O2tgKs3RfPbtlJ7JPY=&amp;h=442&amp;w=347&amp;sz=32&amp;hl=EN&amp;start=93&amp;tbnid=QidiPI67TgThpM:&amp;tbnh=127&amp;tbnw=100&amp;prev=/images?q=forties&amp;gbv=2&amp;ndsp=20&amp;hl=EN&amp;sa=N&amp;start=80" TargetMode="External"/><Relationship Id="rId11" Type="http://schemas.openxmlformats.org/officeDocument/2006/relationships/image" Target="../media/image22.jpeg"/><Relationship Id="rId12" Type="http://schemas.openxmlformats.org/officeDocument/2006/relationships/hyperlink" Target="http://images.google.com/imgres?imgurl=http://www.gallimauphry.com/Decor/paint.jpg&amp;imgrefurl=http://www.gallimauphry.com/Decor/40s.html&amp;usg=__zRLtcc9m3acrba5uw8V1E0DHBAo=&amp;h=480&amp;w=558&amp;sz=42&amp;hl=EN&amp;start=117&amp;tbnid=3fm308DmMguZxM:&amp;tbnh=114&amp;tbnw=133&amp;prev=/images?q=forties&amp;gbv=2&amp;ndsp=20&amp;hl=EN&amp;sa=N&amp;start=100" TargetMode="External"/><Relationship Id="rId13" Type="http://schemas.openxmlformats.org/officeDocument/2006/relationships/image" Target="../media/image23.jpeg"/><Relationship Id="rId14" Type="http://schemas.openxmlformats.org/officeDocument/2006/relationships/hyperlink" Target="http://images.google.com/imgres?imgurl=http://bp0.blogger.com/_nC3pdAOSBog/SEv9GwhgQ9I/AAAAAAAABGg/k_gLzOsHm0c/s400/forties+photograph.jpg&amp;imgrefurl=http://www.thestylepa.com/2008/06/trends-forties-tresses.html&amp;usg=__SLk3vkBawt9Mn4QA0mokzrfAdBg=&amp;h=400&amp;w=320&amp;sz=17&amp;hl=EN&amp;start=18&amp;tbnid=05iiHDKvdmU0TM:&amp;tbnh=124&amp;tbnw=99&amp;prev=/images?q=forties&amp;gbv=2&amp;ndsp=20&amp;hl=EN&amp;sa=N" TargetMode="External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hyperlink" Target="http://images.google.com/imgres?imgurl=http://nasignews.files.wordpress.com/2007/09/louisville-slugger-museum.jpg&amp;imgrefurl=http://nasignews.wordpress.com/2007/09/09/223-200709-22nd-conference-2007-conference-photos/&amp;usg=__n7hiodFDmug4lc7LvGBJfKT09s4=&amp;h=500&amp;w=375&amp;sz=117&amp;hl=EN&amp;start=2&amp;tbnid=Ia6hFYIm3pPdDM:&amp;tbnh=130&amp;tbnw=98&amp;prev=/images?q=Louisville+slugger&amp;gbv=2&amp;hl=EN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5.xml"/><Relationship Id="rId3" Type="http://schemas.openxmlformats.org/officeDocument/2006/relationships/slide" Target="slide83.xml"/><Relationship Id="rId4" Type="http://schemas.openxmlformats.org/officeDocument/2006/relationships/slide" Target="slide110.xml"/><Relationship Id="rId5" Type="http://schemas.openxmlformats.org/officeDocument/2006/relationships/slide" Target="slide12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y are sports important in our country?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213372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32" descr="Just Like Josh Gibs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6880" y="3048120"/>
            <a:ext cx="266544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1440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played baseball long </a:t>
                      </a:r>
                      <a:r>
                        <a:rPr b="1" lang="en-US" sz="32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ago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She liked running </a:t>
                      </a:r>
                      <a:r>
                        <a:rPr b="1" lang="en-US" sz="32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towar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rst base.  She enjoyed playing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s, cheers, field, plate, sailed, threw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ran to home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plate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nd were safe, how would you feel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a wind blew your papers and they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sailed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way, what would you do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wanted to play baseball, what could you use to make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bases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s, cheers, field, plate, sailed, threw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went to spend the day in a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field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, what might you do there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heard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cheers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coming from the park, what might you find when you went to see what was happening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 ball, what might your dog do next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Homoph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ome words sound the same but are spelled differently and have different meaning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osse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Nick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the bal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through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in one side and out the other side of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Edna r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through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the doo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ruw the ball to left feild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threw the ball to left field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 crowd cheerd for him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crowd cheered for him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ing capital letters helps readers identify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proper noun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iting with capital letters lets readers know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day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month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holiday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and 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it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miss brady visited our school on the first friday in m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775f55"/>
                </a:solidFill>
                <a:latin typeface="Tw Cen MT"/>
              </a:rPr>
              <a:t>Miss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i="1" lang="en-US" sz="2900" spc="-1" strike="noStrike">
                <a:solidFill>
                  <a:srgbClr val="775f55"/>
                </a:solidFill>
                <a:latin typeface="Tw Cen MT"/>
              </a:rPr>
              <a:t>Brad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 visited our school on the first </a:t>
            </a:r>
            <a:r>
              <a:rPr b="0" i="1" lang="en-US" sz="2900" spc="-1" strike="noStrike">
                <a:solidFill>
                  <a:srgbClr val="775f55"/>
                </a:solidFill>
                <a:latin typeface="Tw Cen MT"/>
              </a:rPr>
              <a:t>Frida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0" i="1" lang="en-US" sz="2900" spc="-1" strike="noStrike">
                <a:solidFill>
                  <a:srgbClr val="775f55"/>
                </a:solidFill>
                <a:latin typeface="Tw Cen MT"/>
              </a:rPr>
              <a:t>Ma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are and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d with Accuracy and Appropriate P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’s Talk About 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morrow we will read about how baseball bega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ednesday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baseball g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played or attended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1440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lay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seball long ago.  Sh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runn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ward first base.  Sh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enjoy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lay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57200" y="2286000"/>
          <a:ext cx="8381880" cy="37004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to find out how baseball began. Baseball gives us an opportunity to compete and participate in recreation. What else do team sports teach u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57200" y="2286000"/>
          <a:ext cx="8381880" cy="37004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to find out how baseball began. Baseball gives us an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opportunit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omp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articipa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ecreation. What else do team sports teach u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rds in Cont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ak to Your Audi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971800" y="175248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ntence Rea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guess you saw the pretty whal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id you see them laugh in math and science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 watch those dolphins and wish they were pet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ntence Rea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at photo of a bunch of shrimp won the contes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e garden patch near the village has enough flow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y shoe is rough, and my foot starts to itch when I wear i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5" descr="Student Pag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5" descr="Student Pag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we shou’ldve wun the game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We should’ve won the gam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we wouldv’e if w’ed scored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We would’ve if we’d scored!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are &amp;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Visualiz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sing Capital Let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amm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names of days, months, and holidays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proper nouns and titles of people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ich of these words need a capital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amm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66680" y="159984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r. glenn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Mr. Glenn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emorial 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Memorial 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morrow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pril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Apri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dr. b. rog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Dr. B. Rog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peaking and Listen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1905120"/>
          <a:ext cx="7772400" cy="4246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9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er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Think about the audi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Decide whether to use formal or informal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Sit  quiet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Face the speak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Listen to what the speaker say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Watch for nonverbal cues, such as hand gestures and head movemen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ake Connections:  Text to Worl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’s Talk About I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have heard about how baseball began and why sports are important in our country.  Tomorrow we will hear about a baseball play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becom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etter athlet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762120" y="2209680"/>
          <a:ext cx="7619760" cy="37004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sports.  Would you like to be an athlete? Athletes give an extra effort in every challenge they face.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762120" y="2209680"/>
          <a:ext cx="7619760" cy="37004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sports.  Would you like to be an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thl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thletes give an extra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effor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every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halleng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y face.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ocabular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as Resourc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3200400" y="18288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on’t you know if they’re here yet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don’t see it—I should’ve found it by 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on’t ask them if they’d been ther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would’ve called you but you’d just left the hou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2666880" y="1600200"/>
          <a:ext cx="3810240" cy="51879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e slug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___  over the green, grassy _____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____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____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b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ust as the pitcher ____ the ball, I crossed home _____. “Safe!” was the c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b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ust as the pitcher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threw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ball, I crossed home </a:t>
            </a:r>
            <a:r>
              <a:rPr b="1" lang="en-US" sz="2900" spc="-1" strike="noStrike">
                <a:solidFill>
                  <a:srgbClr val="775f55"/>
                </a:solidFill>
                <a:latin typeface="Tw Cen MT"/>
              </a:rPr>
              <a:t>plat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 “Safe!” was the c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228240" y="-609480"/>
            <a:ext cx="8915400" cy="769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we chear as Joe runs the baise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w Cen MT"/>
              </a:rPr>
              <a:t>We cheer as Joe runs the bases.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center feald is not home playt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w Cen MT"/>
              </a:rPr>
              <a:t>Center field is not home plate.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search/Study Skills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eople as Resourc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are excellent resources when you are doing research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have knowledge and expertise in many area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f you want information about something, you could ask an expert in that area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athle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440" y="1752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 - lete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somebody who uses skills and abilities to compete in sport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basketball players were skilled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fast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competed in the rac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47560" y="11430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dc3"/>
                </a:solidFill>
                <a:latin typeface="Tw Cen MT"/>
              </a:rPr>
              <a:t>WRAP UP YOUR WEEK!</a:t>
            </a:r>
            <a:endParaRPr b="0" lang="en-US" sz="6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</a:rPr>
              <a:t>Let’s Talk About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8047"/>
                </a:solidFill>
                <a:latin typeface="Tw Cen MT"/>
              </a:rPr>
              <a:t>Tradition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n athlet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meets a challenge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Related Links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merican Girls Professional Baseball Leagu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 Gibson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 Gibson Foundation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Game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the Contraction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APTPlus Videos  (password required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onder: Baseball Bats, Bar Codes, and Quarries (24:46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ball Bat Factor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01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Verdana"/>
              </a:rPr>
              <a:t>We are now ready to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Verdana"/>
              </a:rPr>
              <a:t>take our story tests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  <a:ea typeface="Arial"/>
              </a:rPr>
              <a:t>Story tes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Classroom webpage,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Student page,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Taking Tes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  <a:ea typeface="Arial"/>
              </a:rPr>
              <a:t>AR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Other Reading Quizz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Quiz # 904628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challen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 - leng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a test of someone’s abilities.  You can also challenge someone by daring him or her to do something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Pitching a perfect game was her bigg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other team will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us to a rematch if we win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effor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176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 - for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the physical and mental energy you use to do something or to achieve a goa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men used a lot of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to move the refrigerator onto the truck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She put forth her b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idn’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do you know about reading this word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idn’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s a contraction of the word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di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no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the letter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o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no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day we’ll learn about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made from other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we’r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is word is a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a short way of saying and writing two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letters that are left ou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the two words that make thi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we’re – we ar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we’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the letter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a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 read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first read the word before the apostrophe and then blend it with what comes after the apostroph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04404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8047"/>
                </a:solidFill>
                <a:latin typeface="Verdana"/>
              </a:rPr>
              <a:t>Small</a:t>
            </a: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dd8047"/>
                </a:solidFill>
                <a:latin typeface="Verdana"/>
              </a:rPr>
              <a:t>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7b615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752120"/>
            <a:ext cx="5105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’d ( ’d can mean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woul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you’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e’d ( ’d can mean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wo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u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l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791320" y="1752120"/>
            <a:ext cx="2666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’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’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uld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Tw Cen MT"/>
                <a:ea typeface="Arial"/>
              </a:rPr>
              <a:t>Vocabulary &amp; Amazing Word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7"/>
              </a:rPr>
              <a:t>Spelling City: Amaz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8"/>
              </a:rPr>
              <a:t>Spelling City: Vocabulary</a:t>
            </a: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9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Tw Cen MT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0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1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2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3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Tw Cen MT"/>
                <a:ea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4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47920" y="15238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’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’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ould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’d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28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’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’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re’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e’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’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are and Contrast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Visualiz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Recall </a:t>
            </a:r>
            <a:r>
              <a:rPr b="0" i="1" lang="en-US" sz="3300" spc="-1" strike="noStrike" u="sng">
                <a:solidFill>
                  <a:srgbClr val="000000"/>
                </a:solidFill>
                <a:uFillTx/>
                <a:latin typeface="Tw Cen MT"/>
              </a:rPr>
              <a:t>Horace and Morris but mostly Dolor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’s compare the boys’ club and the girls’ club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would the story have been different if the boys had not decided to make their own club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are and Contrast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Visualiz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2824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Good reader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mpa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s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what they read with what they already k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ometimes there are helpful clue words that help us compare and contrast, such a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lik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howeve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bu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 Sometimes there aren’t any clue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Good readers picture, or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visualiz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what is happening in a story in their minds.  Then we compare what we are reading with what we already k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723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ges 296-297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8" name="Picture 5" descr="Student Pages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80520" y="-1524240"/>
            <a:ext cx="8458200" cy="883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i want to be an atlete</a:t>
            </a:r>
            <a:r>
              <a:rPr b="0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want to be an athlet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y’re watching ken play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y’re watching Ken play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w Cen MT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Sentenc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should always begin with a capital lett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ay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of the week,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month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of the year, and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holiday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begin with capital lett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The first day of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January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is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New Year’s Day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Titl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for people begin with capital lett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Every year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Mr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. Lewis has a bi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124080" y="175248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091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The last monday in may is memorial day.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dd8047"/>
                </a:solidFill>
                <a:latin typeface="Tw Cen MT"/>
              </a:rPr>
              <a:t>The last Monday in May is Memorial Day.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Every year coach Scalia and mrs. Kurtz march in the parade.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dd8047"/>
                </a:solidFill>
                <a:latin typeface="Tw Cen MT"/>
              </a:rPr>
              <a:t>Every year Coach Scalia and Mrs. Kurtz march in the parade.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is year the fourth of july is on a frida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This year the Fourth of July is on a Frida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 always go to the barbecue at mr. Garcia’s hou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We always go to the barbecue at Mr. Garcia’s hou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holiday is on the fourth thursday in november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What holiday is on the fourth Thursday in November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saw dr. Martin and ms. Chang at the thanksgivin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I saw Dr. Martin and Ms. Chang at the Thanksgivin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tractions 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’re, ’ve, ’d, don’t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won’t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are and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Let’s Talk About 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morrow we will read about a girl that liked to play baseb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371600" y="2057400"/>
          <a:ext cx="6095880" cy="3749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 paragraph about a time you played or watched baseball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09480" y="2133720"/>
          <a:ext cx="8077320" cy="370044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bout a girl who liked to play baseball. She wanted to compete with the boys. She played baseball for recreation. Do you know any girls who are good baseball player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609480" y="2133720"/>
          <a:ext cx="8077320" cy="370044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bout a girl who liked to play baseball. She wanted to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omp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the boys. She played baseball for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recre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 you know any girls who are good baseball player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9120" y="19051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Contractions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’re, ’ve, ’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Vocabulary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Multiple-Mean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Context Clu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Use 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dain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176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 - t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means delicate and pret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dress had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lace colla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You could eat the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cookies in one bit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743200" y="1600200"/>
          <a:ext cx="3809880" cy="518796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e slug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disgu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05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 – guis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can be clothes or make-up someone wears to change the way he or she looks so he or she won’t be recogniz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change your appearance so you won’t be recognized, you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yourself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he spy wore a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so she wouldn’t be recogniz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He wore a wig and a beard to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himself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champ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 – pi- 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the winner of a game or competition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had ten wins and no losse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Our team practiced hard because we wanted to beat last year’s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I’v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how to read contraction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two words form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I’v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en you come to a contraction, read the word before the apostrophe and then blend it with what follows the apostroph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59984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he’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’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’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on’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’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80024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’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’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’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’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he’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5812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’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’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’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’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on’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95480" y="1828800"/>
          <a:ext cx="3581640" cy="465120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091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’d ask him to come, but I don’t think he wil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’re a good friend, and I’ve always said so!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’ve seen that show before!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on’t you walk home with me today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iel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piece of land used for some special purp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calls out or yells loudly to show that you like something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thre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sent something through the air by force of your arm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moved smoothly like a ship with sail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2" action="ppaction://hlinksldjump"/>
              </a:rPr>
              <a:t>(next slid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           I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              they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           she’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d              we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’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’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iel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5" name="Picture 6" descr="Field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133720"/>
            <a:ext cx="2647800" cy="19969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dominican-republic-fiel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21337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0" descr="g-brennan_field11-l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25909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581x300_wrigley_fiel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4767120"/>
            <a:ext cx="2819520" cy="1452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071207_field-hirez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4495680"/>
            <a:ext cx="2133720" cy="14367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6" descr="2%2520HORSES%2520IN%2520FIELD-(c)%2520Paul%2520Smyr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867280" y="4495680"/>
            <a:ext cx="2571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pla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7" descr="4262,1147049604,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133720"/>
            <a:ext cx="2657520" cy="19033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0037-0803-2914-4135_baseball_and_home_pl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2209680"/>
            <a:ext cx="2514600" cy="2081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1" descr="SuperStock_1626-213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2133720"/>
            <a:ext cx="1905120" cy="18889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3" descr="home-plate-seat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4197240"/>
            <a:ext cx="2438280" cy="2041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5" descr="WEB_Baseball_kellen_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4724280"/>
            <a:ext cx="2514600" cy="1476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7" descr="Baseball_Grounds_-_From_Behind_the_NetV2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4454640"/>
            <a:ext cx="23529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ba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7" descr="baseball-diamon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9051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8"/>
          <p:cNvSpPr/>
          <p:nvPr/>
        </p:nvSpPr>
        <p:spPr>
          <a:xfrm>
            <a:off x="5717160" y="42670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First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3432240" y="297180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Secon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1373400" y="41911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Thir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583440" y="55627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Hom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or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7" descr="inde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133720"/>
            <a:ext cx="1744560" cy="2514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048626918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8480" y="21337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1" descr="motoring%2520in%2520the%2520forti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" y="473724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forties_guy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4648320"/>
            <a:ext cx="2009880" cy="1549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5" descr="forties-rockabilly-hairstyle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2680" y="4724280"/>
            <a:ext cx="1192320" cy="15145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7" descr="pain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048120" y="2133720"/>
            <a:ext cx="2895480" cy="2481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forties%2Bphotograph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00600" y="4724280"/>
            <a:ext cx="1185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Louisville slugg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7" name="Picture 7" descr="louisville-slugger-museu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3886200"/>
            <a:ext cx="1738080" cy="2305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207353-480-321"/>
          <p:cNvPicPr/>
          <p:nvPr/>
        </p:nvPicPr>
        <p:blipFill>
          <a:blip r:embed="rId4"/>
          <a:stretch/>
        </p:blipFill>
        <p:spPr>
          <a:xfrm>
            <a:off x="3657600" y="21337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0-Blog_-_Billets_being_processed_540x361"/>
          <p:cNvPicPr/>
          <p:nvPr/>
        </p:nvPicPr>
        <p:blipFill>
          <a:blip r:embed="rId5"/>
          <a:stretch/>
        </p:blipFill>
        <p:spPr>
          <a:xfrm>
            <a:off x="685800" y="2133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5" descr="610x"/>
          <p:cNvPicPr/>
          <p:nvPr/>
        </p:nvPicPr>
        <p:blipFill>
          <a:blip r:embed="rId6"/>
          <a:stretch/>
        </p:blipFill>
        <p:spPr>
          <a:xfrm>
            <a:off x="3124080" y="4343400"/>
            <a:ext cx="2362320" cy="1911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7" descr="img"/>
          <p:cNvPicPr/>
          <p:nvPr/>
        </p:nvPicPr>
        <p:blipFill>
          <a:blip r:embed="rId7"/>
          <a:stretch/>
        </p:blipFill>
        <p:spPr>
          <a:xfrm>
            <a:off x="7091280" y="2133720"/>
            <a:ext cx="1300320" cy="2209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1187007554_134540096f"/>
          <p:cNvPicPr/>
          <p:nvPr/>
        </p:nvPicPr>
        <p:blipFill>
          <a:blip r:embed="rId8"/>
          <a:stretch/>
        </p:blipFill>
        <p:spPr>
          <a:xfrm>
            <a:off x="6095880" y="4452840"/>
            <a:ext cx="23050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plat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hard rubber slab that a baseball player stands beside to ba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bas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places that are stations or goals in certain games, such as basebal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oa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o fly upwar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fort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he years between 1940 and 1949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Louisville slugge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popular kind of baseball ba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gh-Frequency Wo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523520" y="21337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iel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you’r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rew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1051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aile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u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lat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ar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o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5" descr="Student Pages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ext Clu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ometimes we can get the meaning from word part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may understand the base word and suffix (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beautiful, full of beauty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) or the two shorter words in a compound word (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wildcat, a cat that’s wild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can look in a dictionary or glossar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can look for context clues in the words and sentences around the unknown word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Today we will learn more about context clue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09120" y="-990720"/>
            <a:ext cx="8534520" cy="74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 croud chears for me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crowd cheers for m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I raned Around the basis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ran around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bases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Tw Cen MT"/>
              </a:rPr>
              <a:t>Big Question: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are sports important in our country?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13040" y="3581280"/>
            <a:ext cx="6330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Mon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 action="ppaction://hlinksldjump"/>
              </a:rPr>
              <a:t>Tue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3" action="ppaction://hlinksldjump"/>
              </a:rPr>
              <a:t>Wedne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4" action="ppaction://hlinksldjump"/>
              </a:rPr>
              <a:t>Thur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5" action="ppaction://hlinksldjump"/>
              </a:rPr>
              <a:t>Fri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pecial names for people, places, animals, and things are called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proper</a:t>
            </a:r>
            <a:r>
              <a:rPr b="1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nou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Names of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countr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re proper noun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the names of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countr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Mexico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Italy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United Stat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sson Vocabular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isualiz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’s Talk About I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morrow they will hear about some princesses and their secret pastim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256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time you got a chance to play something you'd always wanted to pl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6152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3520" y="2362320"/>
          <a:ext cx="8229600" cy="3601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upon a time, there were twelve princesses. These girls liked to play basketball every night.  They wore special high-top shoes.  Today we will read about  a special ball they had. What do you think the ball will be lik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533520" y="2362320"/>
          <a:ext cx="8229600" cy="3601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upon a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tim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here were twelve princesses. These girls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play basketball every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nigh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They wore special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high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op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hoes.  Today we will read about  a special ball they had. What do you think the ball will b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127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owels </a:t>
            </a: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aw, au, augh, a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mophon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entenc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profession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 – fes –sion - al</a:t>
            </a: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describes a type of job in which people are paid for their skill and training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My uncle is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basketball play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 want to be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singer when I grow up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shortsto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6176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 - stop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s the infield position on a baseball team between second and third ba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 would prefer playing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rather than third ba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Our baseball team has the b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n the leagu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wfu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that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a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can stand for the sound /o/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uto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ugh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alk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9072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played baseball long ago.  She liked running toward first base.  She enjoyed playing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33:41Z</dcterms:modified>
  <cp:revision>43</cp:revision>
  <dc:subject/>
  <dc:title>Slide 1</dc:title>
</cp:coreProperties>
</file>